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F3F-2673-4825-86B2-5C740E2F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8B5-C6AB-4233-A5C6-E0B680B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61C-22A7-46AF-B653-9478FD5C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A71-A6CB-4B2B-A6D5-3902C20E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7A0-127F-4945-A246-8B129E23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800-C012-4E0E-9D9F-DD993FD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662-F5A7-4E0C-8B47-6EC44D3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385-4E9F-4103-94B2-795EDFC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6FF-981D-4494-958D-77489D50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CF5-6038-4336-998D-1A4A225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56B-F684-4912-A6BC-5914D3D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6DD-64C1-4847-9AC8-BEAC2929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5BE-721E-4DCB-98BC-0E331D6AA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546120"/>
            <a:ext cx="77472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21932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Billing/Accou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Receivable/Cash Receipts (B/AR/C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A1F-5370-4DA3-BAC7-D2C89D0D90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echnology Supporting B/AR/C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ill Presentment and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pt of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, Deb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by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lf-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472-75B7-415E-A739-720AA9B6C1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Fraud Conne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sult from improper segregation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y of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of cash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pockets cash/check received from custom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customer A doesn’t complain about missing payment, employee credits customer B’s payment to A’s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customer B doesn’t complain about missing payment, employee credits customer C’s payment to B’s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heme comes unraveled when the employee runs out of hours in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BC8-EDD8-4ECB-B73D-03CCCCDF80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/AR/CR Context Diagra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9560" y="1407960"/>
            <a:ext cx="746748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CD7-59EB-4153-9D4F-85A911821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7120" y="609480"/>
            <a:ext cx="2286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/AR/CR Level 0 DF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16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233-1779-4F7B-BED1-F8A32E16C4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/AR/CR Process Diagram 1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form Bill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76312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6B9-CE72-42CC-B78B-9BC72C0AA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/AR/CR Process Diagram 2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nage Customer Accou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59456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FFB-EA68-422A-A612-C6DCAF796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/AR/CR Process Diagram 3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ceive Pay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45320" cy="46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9CF-6E7B-4D4C-9C94-5DCF4511E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Descriptions in B/AR/C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/R mast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s receivable master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pository of all unpaid invoices issued by an organization and awaiting final dis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accounts receivable systems exi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nce-onl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n it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94B-0A7B-49D0-98A5-5189730782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lance-only syste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-only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 records show a customer’s current balance due, past-due balance, and the finance charges and payments related to th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nth, unpaid current balances are rolled into the past-due bal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and gas utility companies typically use balance-only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340-CEBD-48CE-B9D9-7ADEEDC765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pen-item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-item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in situations where the customer typically makes payments for specific invoices when those invoices are 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R master data, each record consists of individual open invoices, to which payments and adjustments are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ustomer statement of account, a “lump sum” beginning balance is not sh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all invoices that are yet to be settled continue to be listed, along with payment de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each open invoice is grouped by aging category and aged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, or at specified times, the customer accounts are aged and an aging schedule is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6D7-EEA3-43A7-9DCD-C5C1267F7F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relationship between B/AR/CR and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relationship between B/AR/CR and management problem solving at various levels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 familiar with some of the technology used in implementing the B/AR/CR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a reasonable level of understanding of the logical &amp; physical characteristics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a foundation level of understanding as to how enterprise systems impact the processing of information in the B/AR/C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ze some plans commonly used to control the B/AR/C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09680"/>
            <a:ext cx="2971800" cy="1828800"/>
          </a:xfrm>
          <a:prstGeom prst="flowChartProcess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/AR/C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2808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ata Descriptions in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2156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ev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or more invoice records (details contained in invoic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/R adjustmen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-offs, estimated doubtful a/c, sales retur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urnal voucher #, trans. code,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h receip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 of customer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50A-56C4-4438-BBF2-2CA8437B3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5520" y="609120"/>
            <a:ext cx="2514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-R Diagram (Partial) for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4E3-300A-4A61-B9AB-BCA2779E78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82880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ling Function System Flow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248160" cy="60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1E9-F6AA-48F2-9132-FE2931A7AE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14840" y="609120"/>
            <a:ext cx="1600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rol Matrix for Billing Pro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934320" cy="655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8E4-98CE-47A0-9A03-F73F61A52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2438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sh Receipts System Flowcha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594360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E2B-23C0-4836-AFE7-59D62F32DB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7120" y="609480"/>
            <a:ext cx="1676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sh Receipts Control Matrix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1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563-68B0-4E3E-A043-7F42990438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ng/accounts receivable/cash receipts (B/AR/CR)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nteracting structure of people, equipment, methods, and controls designed to create information flows and records that accomplish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repetitive work routines of the credit department, the cashier, and the accounts receivabl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problem-solving processes of financial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 the preparation of internal and extern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1EC-5DCF-4175-839A-1AFC2DE2A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44792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Shipping department informs the accounts receivable department (billing section) of shi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47712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2A8-FC90-40E0-A591-3C698F9AB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295280"/>
            <a:ext cx="198144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a. Accounts receivable department (billing) sends invoice to cust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b. and c. Cash applications and general ledger department informed that an invoice has been sent. Accounts receivable and sales accounts are upd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DB5-0F2B-4E9D-966D-F89633AAE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4479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Customer payment is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444-6C2C-47CB-8CA9-3940AE920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447920"/>
            <a:ext cx="19814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a. Cashier deposits payments in ban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b. and c. System informs accounts receivable department (cash applications section) of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68E-417A-465F-81B6-C6D90C64A9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1447920"/>
            <a:ext cx="19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Cashier informs general ledger process of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2D8-FC0F-42F8-B2F6-65D9BBCF5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sh Receipts Managem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illing function, the goal is to get invoices to customers as quickly as possible; with the hope of reducing the time it then takes to obtain customer pay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he B/AR/CR process produce invoi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mat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ensure that invoices are sent to customers shortly after the goods have been shi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n applied to cash receipts, is the time between the customer tendering payment and the availability of good f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u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unds on deposit and available fo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FB8-E9DD-455E-8F83-12EC14289C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urt Westbrook</dc:creator>
  <dc:description/>
  <dc:language>en-US</dc:language>
  <cp:lastModifiedBy> </cp:lastModifiedBy>
  <cp:lastPrinted>1998-08-03T00:11:14Z</cp:lastPrinted>
  <dcterms:modified xsi:type="dcterms:W3CDTF">2007-06-21T16:26:34Z</dcterms:modified>
  <cp:revision>19</cp:revision>
  <dc:subject/>
  <dc:title>Chapter 11</dc:title>
</cp:coreProperties>
</file>